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7C8-7A7B-40F9-BA06-C9F7E689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2FA-657E-4981-9956-75ED74D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835-8FE7-41AD-9E3B-7B99A493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969-69EA-4F95-8D04-C61A1ED2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05A8-7260-4329-AC57-48BD17E5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36AF-5F04-4736-8B3F-D6E822A8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1F5-C65A-468A-91D7-8478538E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ED5-2FCA-4A16-998B-8966D9F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D54-69C1-433C-9611-2070DD0E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F61-FC2C-413F-B8BF-93A6E7EC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A0E2-5225-442A-9691-00C1FB1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063-3EF2-479C-8F1C-AC52479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94D-D5D1-4314-8FE8-AF77093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8F9-3347-4D89-9EE3-C44ABD2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1C8-C7AB-4BD4-8B3A-FE450CC6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7DAA-76F8-444A-8B91-4CC773A9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607-5E1C-44CA-8546-073341D3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4F4BD-A854-4DBC-B3F6-667327E9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71855-0750-4FF4-850B-81DB982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97449-9812-4465-B67A-1DD6D3AE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1FE95-B0EF-403E-B491-7B999984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4FE3E-6AB0-4402-AC1C-FD9FCCDF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750-7F61-4E7A-B889-6C35E7B9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5369E-BFCC-404B-848A-0C521E45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1776D-01CE-4FBA-A997-CFA9A42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310A3-7ABF-4BBA-848D-3B10626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2A867-637B-4D04-88EC-A7AB8F2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477DC-31E6-44FB-88CD-638B3402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6E480-300F-4650-BD1C-DDBA8983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9327D-019D-4263-913C-0370E61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BB56-3CDF-4BF1-B523-3AF5CF1F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0614-3160-48F3-B81D-599A09A9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8886-1FE1-459F-B613-6FF073D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531-CA48-42BA-B40F-73F18B45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1CDC-7613-4239-B188-C63AC6AA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FD00-D984-48F8-B9EE-546A182A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98E0-3EA3-4812-A0DD-7F3F522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424D-8FB6-4BB2-9879-E1C14D9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8F02-EDCC-46D5-B43B-456B693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527F-CF3C-46F4-89DA-3ABFD94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6126-7DAA-4334-9F81-F01EE0A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5BA4-3302-4731-837C-458C6A59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52B5-320A-4A41-B587-FFC677E7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9E0C7-8679-4E70-B8CC-C261C34F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5D9-D536-41F9-AAA7-858E5D1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FAFA6-AEFC-4779-B75F-F07DC7F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450D2-CDF6-4F7E-B23E-95246968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2CA4F-2341-4A28-97EB-6FD76D9B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02484-EF51-4050-989F-479BB440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D8141-E4AB-482A-8ABA-7862646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D621D-5E6B-4874-9F83-B8C26ACB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69B00-285A-4DE1-9E22-98F82AA9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14973-A0C8-41BF-B635-5DAE1CD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FFB68-404C-4232-8121-28297A5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32A82-02FC-4289-ADCC-2E6D0A6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56D-5F46-4628-99B2-271B2A1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8875E-1445-47DB-A520-9BA9C56E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4E982-344D-488E-A239-E8E3CCC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37733-6D81-455E-8D86-10FA0533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B76B4-DFB3-4D56-AEF4-FD39FD82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C7CA8-E9C9-4D63-B9B2-E46C5CAA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77980-A8BD-4DD5-94F8-CF0DDB0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CF34B-2DEA-49E0-888B-4208D6A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FCBEC-7C68-4013-8B98-298C6FD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96F68-2796-4388-8B10-3BAEFB0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5FE30-5AF8-4FEF-8445-8D23082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FEC-0A47-41CD-B33F-A9BB688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2C2F1-C6E8-44AB-A22E-8A1C55C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77806-4D96-432B-88C0-CBC4E5B1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0301A-BF1F-4C84-AA09-26A0361A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998CE-5EC0-47EC-9961-5DE0DCBD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E1F33-E3B3-413F-A565-42D42E12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BF837-D4D3-4E43-8E97-7158D60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FB381-68CD-45ED-923B-8CA83F6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5F24F-4E0F-4FEF-B44E-6936DBE5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70F0C-4ABD-498B-B4A6-291BF41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465A0-AD05-4822-B8CB-B614793A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10C-4E2D-416A-9AB1-0CA5D40C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86F88-9607-431E-B5D5-BCCD923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F31B3-CACE-4E47-B7F0-D1AA572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A2850-55BC-4534-9DEC-2F5C761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45E1C-8C23-4504-A466-8852139B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489A4-9D64-4D87-B28D-D0C8E1E6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0517-306B-48A7-A37B-FD9867A7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3383-6E9D-43C6-9A6F-EE57595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2AF9-0859-49A0-A4DF-8C02B6C3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3FA8-73C3-4F33-BFE1-D0A53987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E3F87-4FF8-4B92-BF02-E025907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27D-4CF9-49AA-ADE9-53B678F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8784-FB4C-4E22-AF55-CFA6BBA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D85C-28CA-49C5-8077-FE5A432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FC3C-FEEC-4A32-A054-7DA6852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D85F-D8C9-4462-932B-CBC02B5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31895-981B-4BC5-BFDD-FC8EDE1F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70B2-30D0-4175-8B15-77DE498C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2BD68-FB20-404C-8648-B2D03AA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6313-3293-4DAA-989E-E3EEF6D80DE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97E2-D00B-4D76-AB08-BC853DAA2E0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D55-1F27-4057-B1A5-5EBEF3F5F7D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A8BB-7E1F-493E-A6BE-3E21B8BAC6C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5ED2-EA2F-4E32-BC17-FD024286DF5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E2DF-3E41-4A33-BEA9-9DD1B181FBC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E76-0448-441F-ABD1-87F727C2F5E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17B-520F-487E-BA54-ED301EF538C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518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Century Schoolbook"/>
              </a:rPr>
              <a:t>TEMA 2: ALIMENTOS Y NUTRIENT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4" descr="j0217698"/>
          <p:cNvPicPr/>
          <p:nvPr/>
        </p:nvPicPr>
        <p:blipFill>
          <a:blip r:embed="rId1"/>
          <a:stretch/>
        </p:blipFill>
        <p:spPr>
          <a:xfrm>
            <a:off x="6084720" y="3357720"/>
            <a:ext cx="2521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entury Schoolbook"/>
              </a:rPr>
              <a:t>4. EL RESULTADO DE LA DIGESTIÓ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8920" y="981000"/>
            <a:ext cx="418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bsorción intestinal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aso de nutrientes desde el tubo digestivo a la sang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Intestino delgad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bsorb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nutrientes orgánicos,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debido a su gran superficie (100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entury Schoolbook"/>
              </a:rPr>
              <a:t>Gran longitud (7-8m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entury Schoolbook"/>
              </a:rPr>
              <a:t>Pliegues y vellosidades intestinale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Intestino grues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bsorb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agua y sales mineral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. La flora intestinal (bacterias) fabrican algunas vitaminas que se asimilan en el col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932360" y="980640"/>
            <a:ext cx="3743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efecación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restos de alimentos que no han podido ser digeridos o absorbidos (HECES) son expulsados al exterior por el a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n animales la </a:t>
            </a: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CELULOSA no puede ser degradad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or ninguna enzima pero es esencial porque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Retiene agu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Estimula los movimientos del intestino (evita estreñimiento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7" descr="intestino_delgado_y_grueso940"/>
          <p:cNvPicPr/>
          <p:nvPr/>
        </p:nvPicPr>
        <p:blipFill>
          <a:blip r:embed="rId1"/>
          <a:stretch/>
        </p:blipFill>
        <p:spPr>
          <a:xfrm>
            <a:off x="4859280" y="4724280"/>
            <a:ext cx="395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e8637"/>
                </a:solidFill>
                <a:latin typeface="Century Schoolbook"/>
              </a:rPr>
              <a:t>5. LA SALUD DEL SISTEMA DIGESTIV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2 CuadroTexto"/>
          <p:cNvSpPr/>
          <p:nvPr/>
        </p:nvSpPr>
        <p:spPr>
          <a:xfrm>
            <a:off x="468360" y="1125360"/>
            <a:ext cx="316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i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ducida por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cterias de la bo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exceso dul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jeros llegan a la pul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ta: limpiarse dientes, no consumir excesivos dulces e ir al dent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http://www.clinicaloscos.es/wp-content/uploads/2014/12/caries-dental.jpg"/>
          <p:cNvPicPr/>
          <p:nvPr/>
        </p:nvPicPr>
        <p:blipFill>
          <a:blip r:embed="rId1"/>
          <a:stretch/>
        </p:blipFill>
        <p:spPr>
          <a:xfrm>
            <a:off x="4284720" y="1052640"/>
            <a:ext cx="4174920" cy="2232000"/>
          </a:xfrm>
          <a:prstGeom prst="rect">
            <a:avLst/>
          </a:prstGeom>
          <a:ln w="0">
            <a:noFill/>
          </a:ln>
        </p:spPr>
      </p:pic>
      <p:sp>
        <p:nvSpPr>
          <p:cNvPr id="514" name="5 CuadroTexto"/>
          <p:cNvSpPr/>
          <p:nvPr/>
        </p:nvSpPr>
        <p:spPr>
          <a:xfrm>
            <a:off x="468360" y="3357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eñi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ficultad evacuar heces. Evita: vida activa y dieta rica en alimentos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7 CuadroTexto"/>
          <p:cNvSpPr/>
          <p:nvPr/>
        </p:nvSpPr>
        <p:spPr>
          <a:xfrm>
            <a:off x="539640" y="407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arr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heces muy líquidas, por infección o comidas en mal estado. Peligrosas por la pérdida de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8 CuadroTexto"/>
          <p:cNvSpPr/>
          <p:nvPr/>
        </p:nvSpPr>
        <p:spPr>
          <a:xfrm>
            <a:off x="684360" y="5084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inflama el epitelio intestinal)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úlce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heridas en la pared del estómago)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rr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uerte de las células del hígado). Se producen por un mal estilo de vida y el consumo de sustancias como el tabaco, alcohol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6. EL SISTEMA RESPIRATORIO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l sistema respiratori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s el responsable de hacer circular el aire entre el organismo y el medio externo. El aire circula po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sup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nariz, faringe y lari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inf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tráquea y pulm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8880" y="1599840"/>
            <a:ext cx="424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Recorrido del air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ariz y boc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entrada del aire, de ahí pasa a la faringe (común con el sistema digestivo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Laringe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contiene las cuerdas vocales (vibran- sonid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Tráquea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tubo flexible con anillos de cartíl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Pulmon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en la cavidad torácica están protegidos por las costillas. Se apoyan sobre el diafragm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Bronquios-bronquiol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tubos ramifica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lveol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bolsas de paredes finas y con muchos capilares sanguíneos al final de los bronquiolos más f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0" name="Picture 8" descr="30-sistemarrespiratorio"/>
          <p:cNvPicPr/>
          <p:nvPr/>
        </p:nvPicPr>
        <p:blipFill>
          <a:blip r:embed="rId1"/>
          <a:stretch/>
        </p:blipFill>
        <p:spPr>
          <a:xfrm>
            <a:off x="1476360" y="4076640"/>
            <a:ext cx="24829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7. EL INTERCAMBIO DE GA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ntercambio de gase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ntre el aire atmosférico y la sangre se realiza en los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lveol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uperficie alveolar enorme (200m2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stán rodeados de infinidad de capilar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anguíne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pared que separa el aire alveolar y l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angre es muy fin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os gases atraviesan estas paredes por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ifus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, del lugar donde está 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ás concentr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hacía el lugar en el que se encuentra 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enor concentr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OXÍGENO (aire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difusión simple → sang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2 (sangre) → difusión simple → a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4360" y="5734080"/>
          <a:ext cx="6984720" cy="79200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28" descr="Respiratorio4F10"/>
          <p:cNvPicPr/>
          <p:nvPr/>
        </p:nvPicPr>
        <p:blipFill>
          <a:blip r:embed="rId1"/>
          <a:stretch/>
        </p:blipFill>
        <p:spPr>
          <a:xfrm>
            <a:off x="6024600" y="2060640"/>
            <a:ext cx="31194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8. LA VENTILACIÓN PULMONAR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Ventilación pulmonar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: Entrada y salida del aire de los pulmones debido al cambio de volumen de la cavidad torácic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Movimientos respiratorio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Inspiración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los músculos de las costillas y el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diafragma se contrae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y el volumen de la cavidad torácica aumenta, aumentando el volumen de los pulmones y entrando aire en su interi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Espiración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los músculos se relajan, el volumen de la cavidad torácica disminuye y el aire de los pulmones sale de forma pasiv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8" name="Picture 6" descr="Respiratorio4F7"/>
          <p:cNvPicPr/>
          <p:nvPr/>
        </p:nvPicPr>
        <p:blipFill>
          <a:blip r:embed="rId1"/>
          <a:stretch/>
        </p:blipFill>
        <p:spPr>
          <a:xfrm>
            <a:off x="684360" y="3429000"/>
            <a:ext cx="39654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9. EL SISTEMA RESPIRATORIO Y LA SALUD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Infecciones de l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sup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resfriado común, grip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Infecciones de ví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respiratorias inf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bronquitis, neumoní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ronquitis crónica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debido al humo del tabaco se produce abundante mucosidad en las vías respiratorias, destruye los cilios que tapizan las vía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Cáncer de pulmón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crecimiento de células malignas en el pulmó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Relación entre el tabaco y cáncer de pulmón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2050920" y="3863880"/>
          <a:ext cx="65502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863880"/>
                    <a:ext cx="65502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5"/>
          <p:cNvSpPr/>
          <p:nvPr/>
        </p:nvSpPr>
        <p:spPr>
          <a:xfrm>
            <a:off x="6156360" y="616572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dad a la que se comenzó a f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755640" y="4076640"/>
            <a:ext cx="180036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erte por cáncer de pulm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or 100000 muer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10. LOS NUTRIENTES, FUENTE DE MATERIA Y ENER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2 CuadroTexto"/>
          <p:cNvSpPr/>
          <p:nvPr/>
        </p:nvSpPr>
        <p:spPr>
          <a:xfrm>
            <a:off x="468360" y="1484280"/>
            <a:ext cx="75596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E CONSTRUYEN NUEVAS 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Fabrican sus propios materiales para crecer, dividirse y dar nuev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Fabrican sus propios materiales para renovar sus propias estruct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2. SON LOS COMBUSTIBLES 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respiración celular se produce en las mitocondrias. Procesos que ocurren con la gluc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Consumo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iberación de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roducción de CO2 y H2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os lípidos y proteínas también son u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os nutrientes son los combustibles de los cuales la célula obtiene  energía para hacer sus funciones vi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1. LOS ALIMENTOS Y SUS COMPONENT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roductos (naturales o elaborados) que proporcionan sustancias necesarias para que nuestras células vivan. Los constituy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stancias inorgánicas: agua, sales minera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stancias orgánicas: glúcidos, lípidos, proteínas y vitamin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gún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imples: formados por un solo tipo de sustancias alimentici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mpuestos: integrados por diferentes sustancias alimentici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7" descr="alimentos-dieta-vegana"/>
          <p:cNvPicPr/>
          <p:nvPr/>
        </p:nvPicPr>
        <p:blipFill>
          <a:blip r:embed="rId1"/>
          <a:stretch/>
        </p:blipFill>
        <p:spPr>
          <a:xfrm>
            <a:off x="3635280" y="3789360"/>
            <a:ext cx="176868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50920" y="333360"/>
            <a:ext cx="8424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STANCIAS INORGÁN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án en la mate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va y no viv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gua: Más abundante, se desarrolla la vid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ales minerales: cloruros, carbonatos, fosfatos, sodio en huesos, lágrimas …en huesos (sólida) y en los líquidos del organismo (disueltas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23640" y="227628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STANCIAS ORGÁN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n exclusivas de l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eria viv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lúcidos: azúcares. Función energética y estructur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encill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glucosa, malto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Complejo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almidón, celulosa (fibra alimentarí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ípidos: grasa, colesterol. Función energética y estructur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Insaturad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(aceites) origen vegetal, liquidas a tª ambie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aturad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(sebos) origen animal, sólidas a tª ambie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roteínas: hemoglobina, gluten. Macromoléculas formadas por aminoácidos. Funciones divers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Vitaminas: imprescindibles pero que no podemos fabricar y debemos incorporarlas por la dieta para el correcto funcionamiento del organism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5"/>
          <p:cNvSpPr/>
          <p:nvPr/>
        </p:nvSpPr>
        <p:spPr>
          <a:xfrm>
            <a:off x="792000" y="189000"/>
            <a:ext cx="781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s sencillas procedentes de los alimentos que la células utilizan para realizar sus fun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503280" y="1268280"/>
          <a:ext cx="5400720" cy="244800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s inorgá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03280" y="3878280"/>
          <a:ext cx="8209080" cy="2359080"/>
        </p:xfrm>
        <a:graphic>
          <a:graphicData uri="http://schemas.openxmlformats.org/drawingml/2006/table">
            <a:tbl>
              <a:tblPr/>
              <a:tblGrid>
                <a:gridCol w="2711520"/>
                <a:gridCol w="2820960"/>
                <a:gridCol w="2676600"/>
              </a:tblGrid>
              <a:tr h="338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s orgá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1280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ar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id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3496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as o seb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cidos gr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á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012000" y="1268280"/>
          <a:ext cx="2700360" cy="244476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0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n ser lípidos o proteín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carencia provoca enferme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3" name="Picture 224" descr="moleculaagua"/>
          <p:cNvPicPr/>
          <p:nvPr/>
        </p:nvPicPr>
        <p:blipFill>
          <a:blip r:embed="rId1"/>
          <a:srcRect l="342" t="0" r="50017" b="44883"/>
          <a:stretch/>
        </p:blipFill>
        <p:spPr>
          <a:xfrm>
            <a:off x="1908000" y="1766880"/>
            <a:ext cx="1044720" cy="870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25" descr="salero"/>
          <p:cNvPicPr/>
          <p:nvPr/>
        </p:nvPicPr>
        <p:blipFill>
          <a:blip r:embed="rId2"/>
          <a:srcRect l="19349" t="3502" r="48184" b="3035"/>
          <a:stretch/>
        </p:blipFill>
        <p:spPr>
          <a:xfrm>
            <a:off x="3360600" y="2205000"/>
            <a:ext cx="779760" cy="1440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6" descr="moleculasal1"/>
          <p:cNvPicPr/>
          <p:nvPr/>
        </p:nvPicPr>
        <p:blipFill>
          <a:blip r:embed="rId3"/>
          <a:srcRect l="12497" t="0" r="6731" b="1371"/>
          <a:stretch/>
        </p:blipFill>
        <p:spPr>
          <a:xfrm>
            <a:off x="4643280" y="1665360"/>
            <a:ext cx="1116000" cy="10634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243"/>
          <p:cNvSpPr/>
          <p:nvPr/>
        </p:nvSpPr>
        <p:spPr>
          <a:xfrm>
            <a:off x="1655640" y="2744640"/>
            <a:ext cx="151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frutas, verduras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che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umo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44"/>
          <p:cNvSpPr/>
          <p:nvPr/>
        </p:nvSpPr>
        <p:spPr>
          <a:xfrm>
            <a:off x="4032360" y="277812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todos los alimentos, principalmente frutas y verdu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45" descr="lipidos"/>
          <p:cNvPicPr/>
          <p:nvPr/>
        </p:nvPicPr>
        <p:blipFill>
          <a:blip r:embed="rId4"/>
          <a:srcRect l="2049" t="1769" r="15484" b="1842"/>
          <a:stretch/>
        </p:blipFill>
        <p:spPr>
          <a:xfrm>
            <a:off x="3249720" y="4297320"/>
            <a:ext cx="1404720" cy="1903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46" descr="ScreenHunter_004"/>
          <p:cNvPicPr/>
          <p:nvPr/>
        </p:nvPicPr>
        <p:blipFill>
          <a:blip r:embed="rId5"/>
          <a:stretch/>
        </p:blipFill>
        <p:spPr>
          <a:xfrm>
            <a:off x="358920" y="4257720"/>
            <a:ext cx="171756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47" descr="proteinas"/>
          <p:cNvPicPr/>
          <p:nvPr/>
        </p:nvPicPr>
        <p:blipFill>
          <a:blip r:embed="rId6"/>
          <a:srcRect l="2115" t="0" r="1611" b="1831"/>
          <a:stretch/>
        </p:blipFill>
        <p:spPr>
          <a:xfrm>
            <a:off x="6076800" y="4292640"/>
            <a:ext cx="1374840" cy="1873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250"/>
          <p:cNvSpPr/>
          <p:nvPr/>
        </p:nvSpPr>
        <p:spPr>
          <a:xfrm>
            <a:off x="1835280" y="551664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patatas, legumbres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real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1"/>
          <p:cNvSpPr/>
          <p:nvPr/>
        </p:nvSpPr>
        <p:spPr>
          <a:xfrm>
            <a:off x="4643280" y="54817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aceit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cino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tec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54"/>
          <p:cNvSpPr/>
          <p:nvPr/>
        </p:nvSpPr>
        <p:spPr>
          <a:xfrm>
            <a:off x="7308720" y="509256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carne, pescado, huevo, leche, cereales, legumbr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58" descr="manzana2"/>
          <p:cNvPicPr/>
          <p:nvPr/>
        </p:nvPicPr>
        <p:blipFill>
          <a:blip r:embed="rId7"/>
          <a:srcRect l="42164" t="38474" r="18993" b="8006"/>
          <a:stretch/>
        </p:blipFill>
        <p:spPr>
          <a:xfrm rot="955200">
            <a:off x="464760" y="2630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3" descr="sandia"/>
          <p:cNvPicPr/>
          <p:nvPr/>
        </p:nvPicPr>
        <p:blipFill>
          <a:blip r:embed="rId8"/>
          <a:srcRect l="6595" t="0" r="56453" b="59860"/>
          <a:stretch/>
        </p:blipFill>
        <p:spPr>
          <a:xfrm>
            <a:off x="503280" y="2579760"/>
            <a:ext cx="1440000" cy="1173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57" descr="tomate"/>
          <p:cNvPicPr/>
          <p:nvPr/>
        </p:nvPicPr>
        <p:blipFill>
          <a:blip r:embed="rId9"/>
          <a:srcRect l="0" t="0" r="15089" b="0"/>
          <a:stretch/>
        </p:blipFill>
        <p:spPr>
          <a:xfrm rot="20123400">
            <a:off x="1332000" y="3085920"/>
            <a:ext cx="684000" cy="630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59"/>
          <p:cNvSpPr/>
          <p:nvPr/>
        </p:nvSpPr>
        <p:spPr>
          <a:xfrm>
            <a:off x="7201080" y="3222720"/>
            <a:ext cx="14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frutas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rdur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60" descr="fruta"/>
          <p:cNvPicPr/>
          <p:nvPr/>
        </p:nvPicPr>
        <p:blipFill>
          <a:blip r:embed="rId10"/>
          <a:srcRect l="14124" t="7619" r="13203" b="6682"/>
          <a:stretch/>
        </p:blipFill>
        <p:spPr>
          <a:xfrm>
            <a:off x="6022800" y="2257560"/>
            <a:ext cx="1619280" cy="14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2. EL SISTEMA DIGESTIV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istema digestivo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lo forma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ubo diges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s glándulas diges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transformar el alimento en </a:t>
            </a:r>
            <a:r>
              <a:rPr b="0" lang="es-ES" sz="2800" spc="-1" strike="noStrike">
                <a:solidFill>
                  <a:srgbClr val="ff9900"/>
                </a:solidFill>
                <a:latin typeface="Century Schoolbook"/>
              </a:rPr>
              <a:t>nutrientes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que puedan ser utilizados por nuestras célula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1" name="Picture 4" descr="aparato-digestivo-anatomia-humana931"/>
          <p:cNvPicPr/>
          <p:nvPr/>
        </p:nvPicPr>
        <p:blipFill>
          <a:blip r:embed="rId1"/>
          <a:stretch/>
        </p:blipFill>
        <p:spPr>
          <a:xfrm>
            <a:off x="2700360" y="2205000"/>
            <a:ext cx="3600360" cy="27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49952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591840"/>
            <a:ext cx="5364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oc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abertura con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Dientes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formados por dentina, esmalte y la pulp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Lengua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formada por músculos y receptores del sentido del gust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Faringe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cavidad </a:t>
            </a: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común al sistema digestivo y al respiratori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limento va desde la boca hacia el esófag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ire va desde la nariz o boca hacia la laring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sófag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conducto por donde el alimento avanza desde la faringe al estómag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stómago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ensanchamiento del tubo digestiv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La válvula de entrada por donde llega el alimento desde el esófago se llama </a:t>
            </a: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ardias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 y la de salida al intestino </a:t>
            </a: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Pílor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Sus paredes poseen músculos potentes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Intestino Delgad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tubo largo que comunica estómago e Intestino Grueso. Partes: Duodeno, yeyuno e ile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Intestino Grues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conducto grueso en forma de U con tres partes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iego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unión con el Intestino delgado, hay un apéndic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Recto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comunica el colon con el exterior. An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6" descr="sistemadigestivo"/>
          <p:cNvPicPr/>
          <p:nvPr/>
        </p:nvPicPr>
        <p:blipFill>
          <a:blip r:embed="rId1"/>
          <a:stretch/>
        </p:blipFill>
        <p:spPr>
          <a:xfrm>
            <a:off x="5292720" y="907920"/>
            <a:ext cx="3649680" cy="5545440"/>
          </a:xfrm>
          <a:prstGeom prst="rect">
            <a:avLst/>
          </a:prstGeom>
          <a:ln w="0">
            <a:noFill/>
          </a:ln>
        </p:spPr>
      </p:pic>
      <p:sp>
        <p:nvSpPr>
          <p:cNvPr id="475" name="6 CuadroTexto"/>
          <p:cNvSpPr/>
          <p:nvPr/>
        </p:nvSpPr>
        <p:spPr>
          <a:xfrm>
            <a:off x="104292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TES DEL TUBO DIGESTIVO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Century Schoolbook"/>
              </a:rPr>
              <a:t>LAS GLÁNDULAS DEL SISTEMA DIGESTIVO</a:t>
            </a:r>
            <a:r>
              <a:rPr b="1" lang="es-ES" sz="25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Órganos encargados de producir los jugos digestivos (líquidos con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zim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y verterlos al tubo diges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zim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son proteínas que aceleran la </a:t>
            </a:r>
            <a:r>
              <a:rPr b="0" lang="es-ES" sz="2400" spc="-1" strike="noStrike">
                <a:solidFill>
                  <a:srgbClr val="ff9900"/>
                </a:solidFill>
                <a:latin typeface="Century Schoolbook"/>
              </a:rPr>
              <a:t>descomposi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de las sustancias complejas de los alimentos en sus componentes más sencillos (nutrien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ay dos tipos de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lándul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partidas por las paredes del tubo digestiv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(Gástricas, Intestinal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era del tubo digestivo: Glándulas anej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Glándulas Salival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n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Páncre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n el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jugo pancreátic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q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ierte al duodeno. También produce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insulin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(hormona que regula la glucosa en sangre y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que vierte a la sangr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Hígado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 la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bili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que se almacena en la vesícula biliar y vierte al duodeno cuando tiene alimentos ricos en grasa. Emulsiona las grasas para facilitar la acción de los jugos intestinal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También almacena glúcidos, hierro… y elimina sustancias tóxic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8" name="Picture 5" descr="Higado_pancreas728"/>
          <p:cNvPicPr/>
          <p:nvPr/>
        </p:nvPicPr>
        <p:blipFill>
          <a:blip r:embed="rId1"/>
          <a:stretch/>
        </p:blipFill>
        <p:spPr>
          <a:xfrm>
            <a:off x="6588000" y="3735360"/>
            <a:ext cx="2376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4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"/>
          <p:cNvSpPr/>
          <p:nvPr/>
        </p:nvSpPr>
        <p:spPr>
          <a:xfrm>
            <a:off x="6156360" y="1268280"/>
            <a:ext cx="2087640" cy="3565800"/>
          </a:xfrm>
          <a:prstGeom prst="rect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3"/>
          <p:cNvSpPr/>
          <p:nvPr/>
        </p:nvSpPr>
        <p:spPr>
          <a:xfrm>
            <a:off x="934920" y="1268280"/>
            <a:ext cx="2303640" cy="50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tomía del aparato dige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82" descr="826630Unidad03_Página_04_Imagen_0001"/>
          <p:cNvPicPr/>
          <p:nvPr/>
        </p:nvPicPr>
        <p:blipFill>
          <a:blip r:embed="rId1"/>
          <a:srcRect l="0" t="1908" r="0" b="2691"/>
          <a:stretch/>
        </p:blipFill>
        <p:spPr>
          <a:xfrm>
            <a:off x="3132000" y="1015920"/>
            <a:ext cx="2965680" cy="5219640"/>
          </a:xfrm>
          <a:prstGeom prst="rect">
            <a:avLst/>
          </a:prstGeom>
          <a:ln w="0">
            <a:noFill/>
          </a:ln>
        </p:spPr>
      </p:pic>
      <p:sp>
        <p:nvSpPr>
          <p:cNvPr id="483" name="Line 84"/>
          <p:cNvSpPr/>
          <p:nvPr/>
        </p:nvSpPr>
        <p:spPr>
          <a:xfrm>
            <a:off x="3203640" y="1628640"/>
            <a:ext cx="118908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6"/>
          <p:cNvSpPr/>
          <p:nvPr/>
        </p:nvSpPr>
        <p:spPr>
          <a:xfrm flipV="1">
            <a:off x="3166920" y="2852640"/>
            <a:ext cx="154944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8"/>
          <p:cNvSpPr/>
          <p:nvPr/>
        </p:nvSpPr>
        <p:spPr>
          <a:xfrm>
            <a:off x="3203640" y="3681360"/>
            <a:ext cx="1836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0"/>
          <p:cNvSpPr/>
          <p:nvPr/>
        </p:nvSpPr>
        <p:spPr>
          <a:xfrm>
            <a:off x="3166920" y="4724280"/>
            <a:ext cx="1260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2"/>
          <p:cNvSpPr/>
          <p:nvPr/>
        </p:nvSpPr>
        <p:spPr>
          <a:xfrm flipV="1">
            <a:off x="3166920" y="5157360"/>
            <a:ext cx="82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4"/>
          <p:cNvSpPr/>
          <p:nvPr/>
        </p:nvSpPr>
        <p:spPr>
          <a:xfrm>
            <a:off x="934920" y="2103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Tubo dige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6"/>
          <p:cNvSpPr/>
          <p:nvPr/>
        </p:nvSpPr>
        <p:spPr>
          <a:xfrm flipV="1">
            <a:off x="3203640" y="2097000"/>
            <a:ext cx="15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8"/>
          <p:cNvSpPr/>
          <p:nvPr/>
        </p:nvSpPr>
        <p:spPr>
          <a:xfrm flipH="1">
            <a:off x="4787640" y="1557360"/>
            <a:ext cx="143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9"/>
          <p:cNvSpPr/>
          <p:nvPr/>
        </p:nvSpPr>
        <p:spPr>
          <a:xfrm flipH="1" flipV="1">
            <a:off x="4679640" y="3645000"/>
            <a:ext cx="154764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1"/>
          <p:cNvSpPr/>
          <p:nvPr/>
        </p:nvSpPr>
        <p:spPr>
          <a:xfrm flipH="1" flipV="1">
            <a:off x="4680000" y="4292280"/>
            <a:ext cx="15127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4"/>
          <p:cNvSpPr/>
          <p:nvPr/>
        </p:nvSpPr>
        <p:spPr>
          <a:xfrm>
            <a:off x="6840360" y="24573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cffb9"/>
                </a:solidFill>
                <a:latin typeface="Arial"/>
              </a:rPr>
              <a:t>Glándulas 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7"/>
          <p:cNvSpPr/>
          <p:nvPr/>
        </p:nvSpPr>
        <p:spPr>
          <a:xfrm>
            <a:off x="6191280" y="1317600"/>
            <a:ext cx="183672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ándulas saliv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ót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maxi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ling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0"/>
          <p:cNvSpPr/>
          <p:nvPr/>
        </p:nvSpPr>
        <p:spPr>
          <a:xfrm>
            <a:off x="6192720" y="3513240"/>
            <a:ext cx="1836720" cy="6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íg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sícula b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2"/>
          <p:cNvSpPr/>
          <p:nvPr/>
        </p:nvSpPr>
        <p:spPr>
          <a:xfrm>
            <a:off x="6192720" y="4268880"/>
            <a:ext cx="183672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ánc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go pancre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3"/>
          <p:cNvSpPr/>
          <p:nvPr/>
        </p:nvSpPr>
        <p:spPr>
          <a:xfrm>
            <a:off x="2303640" y="1312920"/>
            <a:ext cx="900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5"/>
          <p:cNvSpPr/>
          <p:nvPr/>
        </p:nvSpPr>
        <p:spPr>
          <a:xfrm>
            <a:off x="2303640" y="2771640"/>
            <a:ext cx="90000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7"/>
          <p:cNvSpPr/>
          <p:nvPr/>
        </p:nvSpPr>
        <p:spPr>
          <a:xfrm>
            <a:off x="1727280" y="3216240"/>
            <a:ext cx="147636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dias (entr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íloro (sal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go gás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9"/>
          <p:cNvSpPr/>
          <p:nvPr/>
        </p:nvSpPr>
        <p:spPr>
          <a:xfrm>
            <a:off x="1008000" y="4248000"/>
            <a:ext cx="2158920" cy="91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llosidades intesti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s regiones: duodeno, yeyuno e ile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1"/>
          <p:cNvSpPr/>
          <p:nvPr/>
        </p:nvSpPr>
        <p:spPr>
          <a:xfrm>
            <a:off x="1008000" y="5337000"/>
            <a:ext cx="2158920" cy="9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o y apéndice vermifo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s regiones: ciego, colon y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5"/>
          <p:cNvSpPr/>
          <p:nvPr/>
        </p:nvSpPr>
        <p:spPr>
          <a:xfrm>
            <a:off x="2303640" y="2143080"/>
            <a:ext cx="9000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ri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piglo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entury Schoolbook"/>
              </a:rPr>
              <a:t>3. EL PROCESO DE LA DIGESTIÓ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50560" y="1483920"/>
            <a:ext cx="403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ecánica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acciones </a:t>
            </a: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física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que reducen el tamaño de las partículas y las hace avanzar a lo largo del tub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Triturado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(dient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eglución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(paso de alimento de la boca a la faring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Movimiento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(contracción de los músculos de la pared del tubo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e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mezcla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mezclan las partículas de alimento con los jug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Peristáltic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vanza el alimento por el tub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284360" y="1483920"/>
            <a:ext cx="4390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Química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transform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de macromoléculas en nutrientes (pequeñas moléculas solubles) Ayudado por las </a:t>
            </a: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enzima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n la boca; saliva y enzima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AMILASA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inicia digestión d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glúcidos y el almidó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se transforma en azúcares más sencill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el estómago; jugo gástrico (con ac. Clorhídrico y la enzima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PEPSIN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→ inicia digestión d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proteínas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a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el intestino delgado; jugos pancreáticos, glándulas intestinales y enzimas (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LIPAS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→ descompone las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gras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95280" y="981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gest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formación de los alimentos a su paso por el tubo diges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0:46:38Z</dcterms:created>
  <dc:creator>BIO_GEOLO_3</dc:creator>
  <dc:description/>
  <dc:language>en-US</dc:language>
  <cp:lastModifiedBy>Centor</cp:lastModifiedBy>
  <dcterms:modified xsi:type="dcterms:W3CDTF">2015-12-29T13:42:54Z</dcterms:modified>
  <cp:revision>81</cp:revision>
  <dc:subject/>
  <dc:title>TEMA 2: DIETA Y ALIMENTOS:</dc:title>
</cp:coreProperties>
</file>